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41F-F96E-4468-AB3C-29E89A05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C6B-7CBB-4F6D-8C9E-883D526E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31F-E42A-4A06-86DA-BBC34FF0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B37-57BD-4043-B72C-60301C48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2E1-DAB1-4B26-8B9B-7B46FEAD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E9D-1E07-4C89-B969-89F22843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85A-E5FF-40F7-88A8-40DFA12F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8E0-14DA-4FEB-A72D-E232E696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89D-B1C6-4ED6-88AE-28E75879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FEA-E5AB-465B-A6F4-A63559BE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607-CF2D-4EE8-889B-EE69AFA1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FAB-067A-4571-8E58-8D9FA3C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2213-5265-442D-B1BF-26B22C7E7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7010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09480"/>
            <a:ext cx="2133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371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057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2743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34290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4114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800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486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72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6172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30:21Z</dcterms:modified>
  <cp:revision>10</cp:revision>
  <dc:subject/>
  <dc:title>Présentation PowerPoint</dc:title>
</cp:coreProperties>
</file>